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AAB4-B0B2-4FE3-9C4C-3F98C24F2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howdow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udents answer questions without help.  Teams then share, check and coach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upplie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se wipe-boards  ( one per student), dry-erase markers (one per student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acher monitors and has key for additional assistan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udents can have calculators  to use as need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etup: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ams each have a set of question cards stacked face down  in  the center of the tabl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TEP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acher selects one student on each team to be the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</a:rPr>
              <a:t>Showdown Captai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for the first roun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owdown Captain draws the first card and reads the quest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orking SOLO, all students write their answer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n finished, teammates signal when they’re read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Showdown Captain calls, “Showdown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ammates show and state their answer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owdown Captain leads the checking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correct, the team celebrates; if not, teammates coach, then celebrat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person on the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</a:rPr>
              <a:t>right of the Showdown Captai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becomes the next Showdown Captain for the next rou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5AA2-D9BD-48AC-B67C-AC64FD7A3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586-DCD2-4D2A-9B56-DB768A96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551-A488-40B0-9355-6BFF4F3A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ABF-A7CE-4CA3-BAED-426B1806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8E2-73BF-4315-90EA-CAB46FA6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7966-BB54-4320-AF06-295F4130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F4BF-EF10-498F-A7D0-AEB9AE97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183A-226D-452D-9701-3C0E0965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9759-1772-4640-A7E8-ADB2F877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C33B-AE8B-4670-909B-22DBF25D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60D7-EE6C-4515-A3D1-F3FB3805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8137-5CEF-4C56-8846-69676AD9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E24-8738-4751-BBAE-FB0738B8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1F96-15C1-4949-B1F1-BB41FE2B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EBDA-4835-40FB-98F0-E0B10525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D940-7793-4EDF-AC59-75C60FD3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01FB-C964-438C-B9B8-B8212873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1764-F7BF-4506-8354-B2DFACFA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9DFB7-4DFF-4496-B509-15CEF10D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2F939-204D-4175-96FC-D9424908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75818-C9F9-4A3D-A71D-3F852B25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17A13-BB72-4E9C-98FC-E690453A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5627-60BB-4BEE-91CC-686AAED7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EA1-F80A-40C9-A433-E3BC6AB3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11DD5-0320-44F9-9981-3694EF90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6DA7-50F5-43F0-814A-027914F4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AA24B-9E9F-4574-9457-54F80377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8C313-FC89-4990-8409-6AA158F2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C0692-71BC-44E4-AF58-5E02122C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822E3-B08D-4E99-A9BD-9EE1038A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B3F22-21A1-4055-B1CD-529EB7B3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F82-6FDD-4EB6-A3F2-1C99E2ED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0C3-705D-445F-973D-4D707344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4DA-D6B7-478D-B2A0-6847CBEB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6D0-BE94-4456-A5D6-E3A2BDA8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9E6-28B3-4B12-A58B-4E45686A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AFA-ED5B-4A9B-A6AC-619F4D0F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8E9C-4F8E-435E-A9BD-0C234DE75A4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2ADB-6AD6-4F2B-AEBB-B6CCE5FDA41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CD53-A39C-4A32-A40B-6FFC74B9D2E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564400" cy="19209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Card Game – Factoring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Picture 2" descr="C:\Users\Anna\AppData\Local\Microsoft\Windows\Temporary Internet Files\Content.IE5\6VSZAFZQ\MCj04257640000[1].wmf"/>
          <p:cNvPicPr/>
          <p:nvPr/>
        </p:nvPicPr>
        <p:blipFill>
          <a:blip r:embed="rId3"/>
          <a:stretch/>
        </p:blipFill>
        <p:spPr>
          <a:xfrm rot="20902800">
            <a:off x="5815080" y="4782960"/>
            <a:ext cx="1727280" cy="1920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Users\Anna\AppData\Local\Microsoft\Windows\Temporary Internet Files\Content.IE5\6JY236FF\MCj04258000000[1].wmf"/>
          <p:cNvPicPr/>
          <p:nvPr/>
        </p:nvPicPr>
        <p:blipFill>
          <a:blip r:embed="rId4"/>
          <a:stretch/>
        </p:blipFill>
        <p:spPr>
          <a:xfrm rot="680400">
            <a:off x="7009920" y="4343040"/>
            <a:ext cx="1727280" cy="1920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C:\Users\Anna\AppData\Local\Microsoft\Windows\Temporary Internet Files\Content.IE5\WVOH91YM\MCj04108410000[1].wmf"/>
          <p:cNvPicPr/>
          <p:nvPr/>
        </p:nvPicPr>
        <p:blipFill>
          <a:blip r:embed="rId5"/>
          <a:stretch/>
        </p:blipFill>
        <p:spPr>
          <a:xfrm>
            <a:off x="762120" y="1523880"/>
            <a:ext cx="3020760" cy="426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Object 8"/>
          <p:cNvGraphicFramePr/>
          <p:nvPr/>
        </p:nvGraphicFramePr>
        <p:xfrm>
          <a:off x="3505320" y="3962520"/>
          <a:ext cx="2438280" cy="660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3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3962520"/>
                    <a:ext cx="243828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itle 1" descr=""/>
          <p:cNvPicPr/>
          <p:nvPr/>
        </p:nvPicPr>
        <p:blipFill>
          <a:blip r:embed="rId2"/>
          <a:stretch/>
        </p:blipFill>
        <p:spPr>
          <a:xfrm>
            <a:off x="109440" y="-231840"/>
            <a:ext cx="8663040" cy="8650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457200" y="395280"/>
            <a:ext cx="8458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upplie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ipe board (1 per stu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ry-erase marker (1 per stu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ry-erase eraser (1 per stu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alculator (1 per stu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ck of cards (1 deck per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etup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ms each have a set of question cards stacked face down  in  the center of the table. 4 members to a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TEP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cher selects one student on each team to be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Showdown Captai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for the first 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owdown Captain draws the first card and reads the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orking SOLO, all students write their answers using the wipe board &amp; marker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en finished, teammates signal when they’re ready. 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[thumbs u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Showdown Captain calls, “Showdow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mmates show and state their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owdown Captain leads the checking.  Showdown captain also has the answer key for all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correct, the team celebrates; if not, teammates coach, then celeb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person on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right of the Showdown Captain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ecomes the next Showdown Captain for the next 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C:\Users\Anna\AppData\Local\Microsoft\Windows\Temporary Internet Files\Content.IE5\WVOH91YM\MCj04108410000[1].wmf"/>
          <p:cNvPicPr/>
          <p:nvPr/>
        </p:nvPicPr>
        <p:blipFill>
          <a:blip r:embed="rId3"/>
          <a:stretch/>
        </p:blipFill>
        <p:spPr>
          <a:xfrm rot="478800">
            <a:off x="7059240" y="388440"/>
            <a:ext cx="1349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 KEY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200400" y="1981080"/>
          <a:ext cx="4038480" cy="4546800"/>
        </p:xfrm>
        <a:graphic>
          <a:graphicData uri="http://schemas.openxmlformats.org/drawingml/2006/table">
            <a:tbl>
              <a:tblPr/>
              <a:tblGrid>
                <a:gridCol w="782640"/>
                <a:gridCol w="1198440"/>
                <a:gridCol w="533520"/>
                <a:gridCol w="15238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#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Answ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#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Answ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3)(x+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1)(x-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4)(x+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3)(x-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5)(x+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6)(x-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7)(x+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2)(x-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6)(x+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3)(x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8)(x+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5)(x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-6)(x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14)(x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-5)(x-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12)(x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-16)(x-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8)(x-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-9)(x-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3)(x-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-4)(x-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10)(x-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2)(x+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-8)(x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-2)(x-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4)(x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3)(x-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5)(x-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1)(x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+6)(x-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Picture 2" descr="C:\Users\Anna\AppData\Local\Microsoft\Windows\Temporary Internet Files\Content.IE5\6VSZAFZQ\MCj04257640000[1].wmf"/>
          <p:cNvPicPr/>
          <p:nvPr/>
        </p:nvPicPr>
        <p:blipFill>
          <a:blip r:embed="rId2"/>
          <a:stretch/>
        </p:blipFill>
        <p:spPr>
          <a:xfrm rot="20902800">
            <a:off x="7238520" y="2209320"/>
            <a:ext cx="1374840" cy="153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Users\Anna\AppData\Local\Microsoft\Windows\Temporary Internet Files\Content.IE5\6JY236FF\MCj04258000000[1].wmf"/>
          <p:cNvPicPr/>
          <p:nvPr/>
        </p:nvPicPr>
        <p:blipFill>
          <a:blip r:embed="rId3"/>
          <a:stretch/>
        </p:blipFill>
        <p:spPr>
          <a:xfrm rot="680400">
            <a:off x="7467480" y="3581280"/>
            <a:ext cx="1424160" cy="1582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Anna\AppData\Local\Microsoft\Windows\Temporary Internet Files\Content.IE5\WVOH91YM\MCj04108410000[1].wmf"/>
          <p:cNvPicPr/>
          <p:nvPr/>
        </p:nvPicPr>
        <p:blipFill>
          <a:blip r:embed="rId4"/>
          <a:stretch/>
        </p:blipFill>
        <p:spPr>
          <a:xfrm>
            <a:off x="380880" y="1981080"/>
            <a:ext cx="3021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20:37:06Z</dcterms:created>
  <dc:creator>ACEDILLO</dc:creator>
  <dc:description/>
  <dc:language>en-US</dc:language>
  <cp:lastModifiedBy>HISD</cp:lastModifiedBy>
  <dcterms:modified xsi:type="dcterms:W3CDTF">2009-06-10T12:20:26Z</dcterms:modified>
  <cp:revision>50</cp:revision>
  <dc:subject/>
  <dc:title>Gallery Walk TAKS Objective #10</dc:title>
</cp:coreProperties>
</file>